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F1E8-9E69-46DF-8A47-7DE558AE4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se sentence starters to model facilitation of data analysis</a:t>
            </a: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F1BC-5321-4022-86CE-13E1C2CE5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33DE-4804-44E1-A1A3-C52A0559E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8D22-D9CA-40A6-87C4-5F2FBA0C1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will debrief and people will need to share rationale</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DF57-B4F5-42CE-B564-393BDAA26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eak about Edward Tufte and the book, Envision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utes</a:t>
            </a: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96C8-79E6-44BA-B040-845F4C0AF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e cohort from grade 9 applied to grade 10 applied to grade 11 MB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AE7F-8C92-4F2C-8CB0-229E54D00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EQAO data for one school along with mark distribution data; grade 9 marks organized by section with coding to indicate grade 6 EQAO score for math</a:t>
            </a: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2228-14B3-4269-B8AB-57B3C7602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1BDCB-423B-49BF-831A-2BA326F6C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53ED9-F1C5-4DC4-BC5D-C19BAED8B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04D2C-4D2A-4715-88A7-DB7713BE1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4C5DE-1CDF-41EC-9905-CFA06DAC1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CC6FA-3970-4211-B481-A0820D0D2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3E2A0-DEEC-4BD0-B10B-16D3C9BB7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90097-C833-4382-A4F9-ADF312582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2FF1D-D4F6-4801-A820-FB72A4A0C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03700-1902-44FF-B299-0CCA0AA24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32686-3C31-42C3-A4EF-94875CEB6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C1DBF-C701-4773-BB97-EF5C18DE3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95A80-6EB5-409F-ACBD-8EFFE06A1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08491-8C99-412B-8709-89D06C56F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A546A-B3CB-4DCC-811F-AC532BAA9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1FB7A-327A-4149-9FE7-7158BEA71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9458C-9B3B-4A89-88F3-FE70FC11F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A7A4F-1348-43AE-AF1B-A8C5DC282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59537-D4E9-4183-9323-214BF8825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FEA6B-C3B0-4903-8999-69B825D3F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43A81-0103-4C13-847A-0C41FE049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5EC8A-ACEA-4F8F-AC14-5BBED8DC3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4D795-C386-48AF-9E3D-31B5DD80F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F7A2-873A-40C4-B749-48D64976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C177F-7F2F-4B43-92F8-7FA8E7D1C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71D9-07C2-455A-A175-F751BA7DF3C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CE6B-A705-46E3-98A6-748DF08FF1B8}"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2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pic>
        <p:nvPicPr>
          <p:cNvPr id="112" name="Picture 2" descr=""/>
          <p:cNvPicPr/>
          <p:nvPr/>
        </p:nvPicPr>
        <p:blipFill>
          <a:blip r:embed="rId1"/>
          <a:stretch/>
        </p:blipFill>
        <p:spPr>
          <a:xfrm>
            <a:off x="695160" y="1905120"/>
            <a:ext cx="7753680" cy="4724280"/>
          </a:xfrm>
          <a:prstGeom prst="rect">
            <a:avLst/>
          </a:prstGeom>
          <a:ln w="0">
            <a:noFill/>
          </a:ln>
        </p:spPr>
      </p:pic>
      <p:pic>
        <p:nvPicPr>
          <p:cNvPr id="113" name="Picture 3" descr=""/>
          <p:cNvPicPr/>
          <p:nvPr/>
        </p:nvPicPr>
        <p:blipFill>
          <a:blip r:embed="rId2"/>
          <a:stretch/>
        </p:blipFill>
        <p:spPr>
          <a:xfrm>
            <a:off x="228600" y="1905120"/>
            <a:ext cx="8325000" cy="261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amining Data in TinkerPlots</a:t>
            </a:r>
            <a:endParaRPr b="0" lang="en-US" sz="44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m four (or more) groups and examine the Tinkerplot data file (Board Grade 6 9 OSSLT v3.t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ree possible learning goals:</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Increase knowledge of </a:t>
            </a:r>
            <a:endParaRPr b="0" lang="en-US" sz="2800" spc="-1" strike="noStrike">
              <a:solidFill>
                <a:srgbClr val="ff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inkerplot software</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ata available and ways to blend file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cess for engaging in data analy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e Conversation Star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ebrief</a:t>
            </a:r>
            <a:endParaRPr b="0" lang="en-US" sz="4400" spc="-1" strike="noStrike">
              <a:solidFill>
                <a:srgbClr val="0d469b"/>
              </a:solidFill>
              <a:latin typeface="Arial"/>
            </a:endParaRPr>
          </a:p>
        </p:txBody>
      </p:sp>
      <p:sp>
        <p:nvSpPr>
          <p:cNvPr id="117" name=""/>
          <p:cNvSpPr txBox="1"/>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engage teachers and administrators in such data analysis? How does it support goal setting?</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nabling structures, conditions and processes are required to engage these stakeholders in such dialogue?</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onversation starters were used?  Why were these effective [or not] during the facilitated conver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Journal</a:t>
            </a:r>
            <a:endParaRPr b="0" lang="en-US" sz="4400" spc="-1" strike="noStrike">
              <a:solidFill>
                <a:srgbClr val="0d469b"/>
              </a:solidFill>
              <a:latin typeface="Arial"/>
            </a:endParaRPr>
          </a:p>
        </p:txBody>
      </p:sp>
      <p:sp>
        <p:nvSpPr>
          <p:cNvPr id="119"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ticipants wi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using data and setting goals with a focus on Equity Leader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oaden the depth and breadth of data used for decision ma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by engaging in courageous conversations focused on using data and setting goals using conversation star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Engaging in Reflection &amp; Using a Broader Data Base for Decision Making and Monitor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oal Sort</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Swim Buddy partner, sort the goals from most to least SM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fer to the questions provi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amining Data</a:t>
            </a:r>
            <a:endParaRPr b="0" lang="en-US" sz="4400" spc="-1" strike="noStrike">
              <a:solidFill>
                <a:srgbClr val="0d469b"/>
              </a:solidFill>
              <a:latin typeface="Arial"/>
            </a:endParaRPr>
          </a:p>
        </p:txBody>
      </p:sp>
      <p:sp>
        <p:nvSpPr>
          <p:cNvPr id="10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ather with your Campfire tri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amine one of the two Metathink Docu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your questions, comments, and insights on the doc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Metathink Document A</a:t>
            </a:r>
            <a:endParaRPr b="0" lang="en-US" sz="4400" spc="-1" strike="noStrike">
              <a:solidFill>
                <a:srgbClr val="0d469b"/>
              </a:solidFill>
              <a:latin typeface="Arial"/>
            </a:endParaRPr>
          </a:p>
        </p:txBody>
      </p:sp>
      <p:pic>
        <p:nvPicPr>
          <p:cNvPr id="108" name="Picture 5" descr=""/>
          <p:cNvPicPr/>
          <p:nvPr/>
        </p:nvPicPr>
        <p:blipFill>
          <a:blip r:embed="rId1"/>
          <a:stretch/>
        </p:blipFill>
        <p:spPr>
          <a:xfrm>
            <a:off x="1214280" y="1857240"/>
            <a:ext cx="7000920" cy="595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Metathink Document B</a:t>
            </a:r>
            <a:endParaRPr b="0" lang="en-US" sz="4400" spc="-1" strike="noStrike">
              <a:solidFill>
                <a:srgbClr val="0d469b"/>
              </a:solidFill>
              <a:latin typeface="Arial"/>
            </a:endParaRPr>
          </a:p>
        </p:txBody>
      </p:sp>
      <p:pic>
        <p:nvPicPr>
          <p:cNvPr id="110" name="Picture 4" descr=""/>
          <p:cNvPicPr/>
          <p:nvPr/>
        </p:nvPicPr>
        <p:blipFill>
          <a:blip r:embed="rId1"/>
          <a:stretch/>
        </p:blipFill>
        <p:spPr>
          <a:xfrm>
            <a:off x="571680" y="1714680"/>
            <a:ext cx="7943760" cy="514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19:32:31Z</dcterms:modified>
  <cp:revision>151</cp:revision>
  <dc:subject/>
  <dc:title>Slide 1</dc:title>
</cp:coreProperties>
</file>